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915691"/>
        <c:axId val="90429929"/>
      </c:barChart>
      <c:catAx>
        <c:axId val="339156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29929"/>
        <c:crosses val="autoZero"/>
        <c:auto val="1"/>
        <c:lblAlgn val="ctr"/>
        <c:lblOffset val="100"/>
        <c:noMultiLvlLbl val="0"/>
      </c:catAx>
      <c:valAx>
        <c:axId val="904299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156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D425-8800-4EE8-AD44-D6957400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9A8D-B56B-4810-8171-04D2E290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D08E-562D-40EA-94C2-8A10D5AA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F893-8044-4627-8847-E468509A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323B-69B5-45D8-8F06-C5C73E45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3574-92ED-44D3-823D-6F65DAA3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96F9-8E4C-435C-B446-D6286D4E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1569-ACDE-4C7A-BA41-67823071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DDD4-6C78-44F1-8EC8-25FE76CB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66EC-F6E6-4CA3-98AB-B11A258C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5BD1-37C3-4FBB-9647-71DAF7CD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BA51-312A-4407-AE34-ADF231A4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3E4E6-1C8C-4424-B763-19E939C0B1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