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43803"/>
        <c:axId val="9539923"/>
      </c:barChart>
      <c:catAx>
        <c:axId val="74643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9923"/>
        <c:crosses val="autoZero"/>
        <c:auto val="1"/>
        <c:lblAlgn val="ctr"/>
        <c:lblOffset val="100"/>
        <c:noMultiLvlLbl val="0"/>
      </c:catAx>
      <c:valAx>
        <c:axId val="9539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43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671-3AEB-4A9B-8C06-EEA97885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1DA-FF61-4FDF-B7E4-3144292C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DE3-D0D6-415B-9133-AE4BBC35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FD5-2FB5-4C1D-9672-81F200FC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97B-FBDE-40A7-950A-EA1CA26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25E-559F-44B6-AB3E-F39A8EEB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987-ADC6-4747-ABB9-794760A4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E39-54AC-49B3-88FF-9629AEF2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F16-4053-417B-919E-29C0EDE4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1E1-2632-41C9-AB60-7600898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052-D26A-4ECB-9EA7-BAC9AD6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1B0-00C4-4450-91C5-5E051509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F6DED-C4E4-4B77-B411-35D730FDB5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